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6BF-A63D-419A-B2C4-F8B9535C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14F-A24F-4E5A-9B74-28B0EB48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D9299-EE9E-435E-A082-4F817CD0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533D2-C01C-479A-9888-60FCEC99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72261-763A-49CC-94D0-145E5ACE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45261-6D6F-4F3E-9553-9B7BBA9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7F82-9D88-4CAA-9B11-19702F3B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BB998-9FD8-4E4A-88B9-C5DD8A7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72BC-A226-4E63-8BD2-C5BB354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B9A6E-357D-4542-AE53-A9BD27CD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B6589-8600-463B-8A11-7EB66C2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00844-DF85-40B4-B432-F3FB0B61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6D7-190B-4230-BD7B-47398FD1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C3AF3-0C42-45AD-B33F-1DEA9D0D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B4463-AAEB-4C45-8570-261A04D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C4B2E-FB20-4CF5-BA32-8A66BF64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00CFA-ECA8-4E7F-B38D-10F9E06F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B3F16-F23A-4F58-A708-3B149EC8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5F90-1235-4455-A573-8A69AA0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4AA91-3809-4FD9-B18B-3CBB56F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4700-6DEF-4154-A51E-B95FAD3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D153F-0204-4CEC-98D1-98E15AF5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EEB97-2424-4C79-B628-E57F1626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DD6-1B7A-40D3-B639-86762780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6FDF0-EBEA-461C-98F1-D1BBA94D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A824-FB35-4917-9B5A-C919855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8488-5AB1-4BDC-AC3B-5A66C34B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CF3-4350-467F-A543-14A32B27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BAFC-65E4-4430-8E39-E0C7D50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1952-8451-4746-A2B0-11E35A4A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FE37-2F90-4738-81FD-75B0D268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702C-1D42-49AB-B053-96A4A8B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813-F2FE-409F-8688-48F270E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7DC2-3BD3-4131-9C89-B48CD12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7D3F-8F6B-48F4-A15C-E14F65F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2FD5-CB0E-4F7E-9F0D-721FB40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E03-1C24-4EB5-AD5A-30CA8771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398-E8A9-4A10-B8FD-FB9FB5E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B8DD-1918-4922-BF84-7E36D72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AA35-841C-47C1-B982-ECB9A21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CC59-7F31-42B9-8028-386EB812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BABA-E157-42EB-A608-B275DF9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C353-48EC-47E2-8AA3-49667CA4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8B0-4BDD-431B-8557-8C87E229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2FF6-FF75-42E8-BD44-0F52AF6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4F9F-B9BC-4290-A99D-0D6905C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D2B9E-827A-4550-B324-2319C6E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43E7-A008-415D-9E8A-8466D59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4C3D-F7E6-45DD-95C8-133742F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98FF-DD49-4128-9A46-F8ED5F8B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6239-12DA-4239-BB57-1CFDFF5F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8491-1B2E-4143-A3B3-89BC1584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79C1C-BE54-43E6-8A06-91D94820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F83A-0924-4629-BC49-0EA0DA2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E77-8C37-4E0F-BE94-CD62CCC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410C-7E57-4569-B798-149B3F9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5618-CB06-4CA0-816B-A1D68F6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3C81-12F9-46D2-BC35-89FC9FE5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A390-E693-4FE5-9F69-6CBFC517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688E7-DDF9-4F51-90B7-E6D792C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712D-D195-4D83-9287-092426B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4F8D-132A-4B5E-8205-42CCADD2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DF70-2886-4EE7-9BB2-EBB4A7E9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4B9C-39C7-47AA-BEA2-5FCA2BFE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F74A-34D7-4CFD-B35A-58A25F8D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8F9-0FEA-4AB9-B671-22A8696A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FA69-78C0-4F3D-92FC-27B2961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B874-F97E-475E-9E27-84E5EA74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A6A9-FE60-48E6-A55C-5D9C357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84E0-7AC4-4FFA-8315-FCFE8A9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2E2A-C004-4C38-8DE6-80EB0163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534D-A74B-4C6E-9A90-B6F78D08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92216-BA22-4D4A-ABC2-9FF5B0B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355A1-BB36-4C77-8FAF-35DE0FB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C7164-6AB4-4B66-954A-39139A9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C1204-9A20-44D2-9F52-F10CCA20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C15-7BA8-459F-9A6E-C0527A7D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32E68-B60C-4FE0-BDB5-7A56EF45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50E72-1B4F-4286-8C33-7AC20F0B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12F0-FD03-4C85-857C-6EC9833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6B65-A10C-45C2-A7D7-857675F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64D4F-E9FA-4B48-9C0B-96C56976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CD4F-81FB-45A8-ABF9-2341BC2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CBC7E-CE1D-47FD-ACB7-C7F8A02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FD9C-DA8A-4617-B117-215047B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8BC8C-DE09-4DE9-8981-932F7D9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D86DA-A0A2-428A-9D20-3A942D6C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E03-D715-4343-AF44-FD27A6B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DD8D-C190-419B-B278-F4D9938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9B041-704D-43AE-A03F-5528C6BD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F97F0-0B4D-45BE-B194-679A26E0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0EB67-8E65-4DD9-9AE8-EBD3F596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7D4D9-AE30-4AFF-963A-267EB32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31754-2C49-462E-937D-A44ED58C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A3C8-A17A-4CB8-B3F8-8D4F181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7E943-408E-4C6D-BC21-79A3DAC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6847-A95B-4BA2-8132-A847AE8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EB7C-58BD-4A8A-BE75-2156E50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783-0756-4C59-8C2A-0B4F6B03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C80AA-22A6-460D-B22F-D91FA81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C32F-3671-4443-8E89-D0FF01F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62DB-8565-47B8-9E59-F602598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7C16-E810-4F26-986F-9272F180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D8E8-07AA-4CC9-92C7-33024A71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A850-D160-490C-95CA-77EBBBBD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E463-4A5C-474A-B23F-C6C89BB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FE8D-4164-4D7C-9C9E-1463718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7BB89-ECD5-47A6-8C72-00C354D8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4D64D-E3CC-4B9A-A169-033D0B48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C8F-AEEE-4CEF-A24F-6BFFC32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6A34A-B26B-4EDE-8A85-AC853BA4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ED42-618C-45CE-B620-C4F2FB7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57AB5-ACEC-4E3F-B55D-316E402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BC9A-C99D-433F-A8DB-E32D7AF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27E63-A062-4C3C-9BED-152A6A6D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74A3-4FEA-4AFA-BEDD-8F412E8A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450A-BA32-4603-95DB-094670A6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6BD5B-2479-49E4-BA72-A53707A8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4806A-63BB-471C-BFAF-42F710E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B8452-1415-46CE-BD3B-A23B404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2A84-E12E-4FFD-B9B7-72428D0C4D5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DBE8E-4443-481C-9C78-FFDB6FCA455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B2FF-B93E-4626-82E5-03FDABFB092E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2057400"/>
            <a:ext cx="9067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7B42-BE80-4342-9513-867A56236223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53928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720" y="1913040"/>
            <a:ext cx="867240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600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8080" y="6527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54640" y="6527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0D68A-EA66-4A01-9083-C06ED2FE1394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5C62D-FD97-4726-B3E2-4A12676264BE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5532-721D-4DA5-83D1-E71BB7F90FF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766C4-6AE6-4931-8318-8E4A1DEC9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477DF-9D89-47FB-A8DD-57A428FB5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8723C-421E-419A-A882-22CDF3D3BA7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 Rounded MT Bold"/>
              </a:rPr>
              <a:t>Modelado eólic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Agente modelad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11280" y="144000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33560" y="2163600"/>
            <a:ext cx="135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ien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92360" y="1440000"/>
            <a:ext cx="3363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ículas de polvo 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otros materiales lig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2359080"/>
            <a:ext cx="27874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oca vege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4560">
              <a:lnSpc>
                <a:spcPct val="97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Escasa hum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03640" y="1511280"/>
            <a:ext cx="287280" cy="19065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9680 h 1906560"/>
              <a:gd name="textAreaBottom" fmla="*/ 1856880 h 190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19640" y="1800360"/>
            <a:ext cx="503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653160" y="1582560"/>
            <a:ext cx="400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f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84360" y="287964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3160" y="3672000"/>
            <a:ext cx="577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gasta y pule la superficie de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91280" y="388764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96240" y="3672000"/>
            <a:ext cx="2290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brasión eó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64360" y="410364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4822920"/>
            <a:ext cx="1338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57920" y="5634000"/>
            <a:ext cx="382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lieve típicos: Montes is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6400" y="6175440"/>
            <a:ext cx="3783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lieves de rocas que h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sistido la ero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11280" y="410364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2040" y="4735440"/>
            <a:ext cx="48643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icipa en la erosión, transpor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y sedi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186520" y="2413080"/>
            <a:ext cx="4533840" cy="2987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44720" y="2163600"/>
            <a:ext cx="387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3333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92000" y="4284720"/>
            <a:ext cx="4083120" cy="291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36520" y="2016000"/>
            <a:ext cx="33624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Formas de ero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           </a:t>
            </a: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ó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27280" y="720720"/>
            <a:ext cx="216000" cy="30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72080" y="863640"/>
            <a:ext cx="1557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lvéo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00720" y="1079640"/>
            <a:ext cx="287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69080" y="863640"/>
            <a:ext cx="3413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equeñas oqu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roducidas en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57680" y="2087640"/>
            <a:ext cx="293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ocas fungifor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327640" y="2478240"/>
            <a:ext cx="4370400" cy="32097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5232240" y="2735280"/>
            <a:ext cx="3911760" cy="3095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754440" y="3168720"/>
            <a:ext cx="317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vimento desér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47520" y="3887640"/>
            <a:ext cx="4992840" cy="3138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43000" y="530280"/>
            <a:ext cx="5141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Formas de transporte e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280" y="2232000"/>
            <a:ext cx="126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944720" y="180036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44720" y="1440000"/>
            <a:ext cx="1265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suspens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232000" y="3959280"/>
            <a:ext cx="5111640" cy="3240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527280" y="1584360"/>
            <a:ext cx="23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fi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16000" y="2232000"/>
            <a:ext cx="126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sal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13040" y="259236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27280" y="2374920"/>
            <a:ext cx="3291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intermed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44720" y="3311640"/>
            <a:ext cx="1368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46200" y="2951280"/>
            <a:ext cx="21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76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 Rounded MT Bold"/>
              </a:rPr>
              <a:t>reptación o rodadu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5440" y="3166920"/>
            <a:ext cx="2770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materiales grue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68360" y="1224000"/>
            <a:ext cx="287280" cy="244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893880" y="1874880"/>
            <a:ext cx="191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Desiertos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18960000">
            <a:off x="2198520" y="880920"/>
            <a:ext cx="1038240" cy="1076400"/>
          </a:xfrm>
          <a:custGeom>
            <a:avLst/>
            <a:gdLst/>
            <a:ahLst/>
            <a:rect l="l" t="t" r="r" b="b"/>
            <a:pathLst>
              <a:path w="142" h="147">
                <a:moveTo>
                  <a:pt x="98" y="21"/>
                </a:moveTo>
                <a:cubicBezTo>
                  <a:pt x="64" y="21"/>
                  <a:pt x="36" y="50"/>
                  <a:pt x="36" y="84"/>
                </a:cubicBezTo>
                <a:cubicBezTo>
                  <a:pt x="36" y="102"/>
                  <a:pt x="22" y="116"/>
                  <a:pt x="4" y="116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47"/>
                  <a:pt x="0" y="147"/>
                  <a:pt x="0" y="147"/>
                </a:cubicBezTo>
                <a:cubicBezTo>
                  <a:pt x="4" y="147"/>
                  <a:pt x="4" y="147"/>
                  <a:pt x="4" y="147"/>
                </a:cubicBezTo>
                <a:cubicBezTo>
                  <a:pt x="39" y="147"/>
                  <a:pt x="67" y="119"/>
                  <a:pt x="67" y="84"/>
                </a:cubicBezTo>
                <a:cubicBezTo>
                  <a:pt x="67" y="67"/>
                  <a:pt x="81" y="53"/>
                  <a:pt x="98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73"/>
                  <a:pt x="103" y="73"/>
                  <a:pt x="103" y="73"/>
                </a:cubicBezTo>
                <a:cubicBezTo>
                  <a:pt x="142" y="37"/>
                  <a:pt x="142" y="37"/>
                  <a:pt x="142" y="37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21"/>
                  <a:pt x="103" y="21"/>
                  <a:pt x="103" y="21"/>
                </a:cubicBezTo>
                <a:lnTo>
                  <a:pt x="98" y="21"/>
                </a:lnTo>
                <a:close/>
              </a:path>
            </a:pathLst>
          </a:cu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632040" y="919080"/>
            <a:ext cx="4848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variaciones de temperatura en 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aderas entre el día y la no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88000" y="1800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51280" y="2376360"/>
            <a:ext cx="39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fragmentación de las ro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00360" y="2879640"/>
            <a:ext cx="1440" cy="100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64000" y="3527280"/>
            <a:ext cx="287280" cy="309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8200" y="4392720"/>
            <a:ext cx="26830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Según su mater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sedimen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57680" y="3562200"/>
            <a:ext cx="380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iedras y cantos grue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381636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12160" y="3527280"/>
            <a:ext cx="28238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eg”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esierto pedreg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79640" y="4303800"/>
            <a:ext cx="144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64000" y="4535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4120" y="4319640"/>
            <a:ext cx="3520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Erg” o desierto aren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96000" y="47512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91280" y="5111640"/>
            <a:ext cx="1265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Du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92520" y="5616720"/>
            <a:ext cx="3543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Partículas finas de l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8720" y="5832360"/>
            <a:ext cx="503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5760" y="5589720"/>
            <a:ext cx="26780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oess” o desie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arcilloso y limo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dur="indefinite" fill="hold">
                      <p:stCondLst>
                        <p:cond delay="indefinite"/>
                      </p:stCondLst>
                      <p:childTnLst>
                        <p:par>
                          <p:cTn id="3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dur="indefinite" fill="hold">
                      <p:stCondLst>
                        <p:cond delay="indefinite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5111640" y="647640"/>
            <a:ext cx="4668840" cy="4319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122400" y="576360"/>
            <a:ext cx="4773600" cy="424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638600" y="532764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1270080" y="287280"/>
            <a:ext cx="7619760" cy="471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608360" y="5043600"/>
            <a:ext cx="1265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1584360" y="41580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494240" y="5975280"/>
            <a:ext cx="126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Lo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1440000" y="503280"/>
            <a:ext cx="7070760" cy="417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dur="indefinite" fill="hold">
                      <p:stCondLst>
                        <p:cond delay="indefinite"/>
                      </p:stCondLst>
                      <p:childTnLst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20720" y="720720"/>
            <a:ext cx="1274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Du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704880" y="1403280"/>
            <a:ext cx="6062760" cy="3780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199280" y="503280"/>
            <a:ext cx="2735280" cy="2376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266760" y="12240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dur="indefinite" fill="hold">
                      <p:stCondLst>
                        <p:cond delay="indefinite"/>
                      </p:stCondLst>
                      <p:childTnLst>
                        <p:par>
                          <p:cTn id="4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25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6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dur="indefinite" fill="hold">
                      <p:stCondLst>
                        <p:cond delay="indefinite"/>
                      </p:stCondLst>
                      <p:childTnLst>
                        <p:par>
                          <p:cTn id="5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dur="indefinite" fill="hold">
                      <p:stCondLst>
                        <p:cond delay="indefinite"/>
                      </p:stCondLst>
                      <p:childTnLst>
                        <p:par>
                          <p:cTn id="5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25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03280" y="647640"/>
            <a:ext cx="278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Rounded MT Bold"/>
              </a:rPr>
              <a:t>Tipos de du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31640" y="3672000"/>
            <a:ext cx="4562640" cy="31399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628640" y="1459080"/>
            <a:ext cx="1611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Barja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184720" y="3708360"/>
            <a:ext cx="4319640" cy="30607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600200" y="2160720"/>
            <a:ext cx="30067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Ripples o riza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1440000"/>
            <a:ext cx="287280" cy="194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55640" y="2867040"/>
            <a:ext cx="5759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marL="214200" indent="-214200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Rounded MT Bold"/>
              </a:rPr>
              <a:t>Lunetas: dunas más pequeñ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dur="indefinite" fill="hold">
                      <p:stCondLst>
                        <p:cond delay="indefinite"/>
                      </p:stCondLst>
                      <p:childTnLst>
                        <p:par>
                          <p:cTn id="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16:13:53Z</dcterms:created>
  <dc:creator>Jiaying y Jiahe xu</dc:creator>
  <dc:description/>
  <dc:language>en-US</dc:language>
  <cp:lastModifiedBy>Jiaying y Jiahe xu</cp:lastModifiedBy>
  <dcterms:modified xsi:type="dcterms:W3CDTF">2016-12-16T16:28:30Z</dcterms:modified>
  <cp:revision>2</cp:revision>
  <dc:subject/>
  <dc:title/>
</cp:coreProperties>
</file>